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D9F-0105-43C4-B45F-50D6414C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019-01E9-42EA-BAB3-487358CB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C0887-7B95-42BC-BE45-94CE1EDB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29770-4AE1-4C69-A90F-A0FF4FB3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57040-30A2-4426-B4F8-8DBB120D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61F0B-5409-432F-9C03-89FA29A9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CA88E-6956-457E-A761-5467421D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0407C-514F-47BA-96C4-EBB87142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5C09A-6CDB-425D-947C-1AAE3196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C05AC-AEB7-4060-9588-BB2CDF12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B7233-C2EE-4C9F-A6A9-4F77D056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0E9CE-4329-4873-8EDB-7B1728E6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B3A-F4AA-44BA-871F-0687391C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2A85C-2C94-45CC-B507-C2D02397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D5159-F7DE-4527-891A-1DD38C9D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961EF-43B5-443D-A76E-6585C7CF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81559-C309-4799-B35F-FDF40959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399A5-C287-4CD6-8976-E9A63618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04A46-7B66-461F-991F-9CED085B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EB0EF-3889-4072-9553-B55D1E6F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294BC-E6E5-4913-BAB5-E3FB8AD6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DAE76-A11C-4FD4-8726-1B934CC7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CF17B-713B-41ED-927A-7692960E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CB1-AD8D-43F2-A7D5-A294905E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32779-1F78-45AE-8445-01642632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D2EE8-3029-492B-BC2C-926311BA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E6795-6B76-4942-9D33-73DF8137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B146C-7EE8-4EE9-B6FC-E91B5377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35F40-35D5-42DF-B372-753431E2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FC2B5-2BB2-4B6C-9E47-89180334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C48FD-3EFA-4E0A-81F7-AAFE6EE8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8A26D-77F0-4819-8DA4-6AE453E3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1E2E0-F289-478E-8338-61FC3614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C9728-FF3C-4BD9-82BE-BF6EF213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BEC6-364E-4847-A934-1B35D4ED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BE817-13E5-4E92-9408-B82CA784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71213-9D24-4AC5-A801-959784A8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C683E-5CFF-4BCA-8879-20C80DF5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9739F-6B65-4871-9756-71289769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A5DCD-D8F1-45A5-B0FE-B5EF0A6F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58873-6860-4E01-AEAD-86DB10EA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22708-52A6-40E8-B2F5-5225B1B5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8D282-2656-49F5-A4EA-43BDE322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2E318-FF25-4127-A01E-5BC84376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D7A11-83AF-47FD-97BC-9C95778F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E3DA-B8B6-407E-B8F1-5C2C7098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9B3E5-D4B5-4E26-94B4-5C89F81C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0D888-BE38-4346-9867-909B30A3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6C3EE-BD83-41C8-90B6-CE28191A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8AABC-7ECE-4EBB-A190-7530D112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2A87B-5070-410D-8687-F0D7A5CA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5DEA-75CA-41A0-82B5-F253CB64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D50A-E7FA-4AFF-9DBC-04CD2C8E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2ED6-CDA6-4836-BF6A-6081EBC9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6E13-5902-4BD2-B60E-A832E2CA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B73A-03C7-40DA-B14E-9AFE7C3B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B0B-C830-423D-938B-F286E920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2FF7-8271-420C-A2D2-3D86E003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13B8-D801-4E61-8018-D6322C90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16DB-F38A-41B0-B80D-1619DE86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F8A3-A83E-42A5-8708-8790FD8E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5AE8-1B78-4785-8302-46510C0A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558B4-D529-4EA4-B932-A6CFE27B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DAB03-20AC-4D48-8D4F-0F6AF657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D32D3-7C59-45AF-97DE-32B0C5BF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C142-68F3-46C6-913B-E7C7F5FA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122A5-553F-46F0-AFD0-E412A1A3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2E2-19F6-466C-8CF4-9E302A48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592EC-4084-47F0-89A6-F8D378CD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CAB81-6A81-4F92-9245-25E9415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11C35-B552-47C2-8968-CC8DF11B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D0407-9079-44DF-9B71-73E776A6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0323-7EC9-40F9-8A27-130853E4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E62E7-6D87-41C5-9F32-83924668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FD4C1-246A-4BCB-B4B1-0A514774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B0A59-4016-4A54-BBBA-C4D31244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D7B2E-30E0-425F-A9E5-425A965C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B5A16-CD4C-45C0-8070-383E455F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CA6-E9CF-4B52-88CA-31FD0056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C714C-AA27-46DD-9A42-11B5DD3A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DF436-D918-4150-93A7-9B133A3A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4EF52-CBA8-4B64-AB18-B2B90676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2E22A-7BF4-4191-BD35-51E05E1D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84BA7-AD39-4697-9A5F-2A223E63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E8F5F-0386-4BFA-B568-49F635D5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A1B79-19E4-4DD1-867A-D259203B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B54AD-DD9A-4272-9899-F314A9BA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87750-1B90-4D02-8A96-9D057C97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1A5CD-F4DB-4C2A-AAE7-C21FBC75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E57-58FF-469D-BFD0-0A3F28D7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C368A-06E5-44BC-B34D-1BD09B55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1B3EC-57D8-44F4-9C44-4650B711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AA9DE-6EA2-4F5B-8247-0B9F0EE5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E5950-A932-4E85-90C8-77F39426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32E75-0D36-4181-A341-6C5AE4A4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1EC3C-4476-4285-B471-CD92617E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CC163-E3A6-4625-AB75-11A31C7A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AB70B-4D71-4C38-B8B0-2E1D4121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7C163-36DD-4DD3-8EA7-5CC76D88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51EAE-CE15-4C78-99C4-8882B0EE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35B-6D90-46A1-8447-384C92CB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075AA-B168-4570-BD4D-1CCC8084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688C9-8D8D-446B-AA18-80ABA7F7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FEC68-3E8B-4B43-A49A-0CEE41C2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9722B-2589-4978-AB56-1815D9F2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53F5C-52C0-447F-A039-10A6D723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BD476-6F4F-40D5-8B6A-6F09AE3E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29092-6739-438C-9715-F78B7F3E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14C72-D55F-4763-B5BA-461BC563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ADA08-67AD-4567-9195-397B5FA9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B7EA0-23FE-4E22-B728-3C77A96C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9FE-55D4-497F-AE6D-88023E3B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CA228-62BA-494B-B13A-7597D3F9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F9C93-A03B-433C-ABE9-39188526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55410-35C5-4600-BB63-FC7AD45D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A370D-44EE-4843-8750-24B44E0B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91B4A-CE86-4065-A01B-96B114AB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39430-0DBF-465C-A4E0-DE747954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3B4F4-CC85-4D3D-BBA7-43AC5150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B07A4-35C1-4232-95F4-3458A935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CB94A-EDA8-4F0C-8210-3DCEFCF6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DB56F-5142-452C-BB06-2AE6ACD8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034-9253-4D75-A65E-399FF6BD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F5DEB-CEA1-4132-9ED7-98605491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C411D-C771-45D2-915B-6E9433B9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0BA77-3722-4BC8-AD43-7D4C16FF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5DD7B-0C6D-43AA-92D0-6A461C1D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7DB73-0F57-4E6D-856E-542AD12C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24509-FBDC-4BD0-8986-5ECB22F9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29C8F-32A7-4CA3-A583-3E19282E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2DBA0-14A2-4EE1-8E60-63B237C2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39474-1C0C-4EE4-97E9-FED13C40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9E79D-6D0C-4EEC-A5A3-A9786876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6DC-0D17-4178-85C0-501FE457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99092-3F82-4985-9768-3EA8A47C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4D179-B980-49A4-B895-367CCC0E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B90B8-EEE7-4351-9DE2-4116ACEE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8D590-8B20-405F-84B2-2D3D212F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87EA2-50EB-45FA-AA2C-9D3A2F3B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EF793-8092-45BA-BA59-CF6559B1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551F9-D237-420F-B72A-5214DED8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7966D-CF1C-4D26-A650-DC1DA8CD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B0E86-E658-4D0B-96FB-8ACA03A0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696A3-3B88-45F0-9EDC-5A373424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13BD-C1BF-4F91-88AF-0C98B3598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D4FE-0DE8-4206-80E1-E9E87BDF8E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96AC-337E-4515-9B75-CC12E25C10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A2E7-9F86-4CFF-A20B-040530151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F3C5-F1F8-48BC-AB4E-A0423DDF51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423D-45C0-4B2A-83DF-10DCB66B12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64BA-A570-4A17-A425-2ACF5AB2EE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E624-50B7-42B9-8B10-E590C3BEB9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5613-90DF-4F10-B9D4-5286955DC8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5528-85F4-4F26-A201-C9917B79CB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4672-D229-463B-B776-B3DEADB5D4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33FE-B435-46ED-94B2-A35A511692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hyperlink" Target="http://www.geo.brown.edu/research/Assets/plankton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bgnet.mobot.org/salt/oceans/pict/zones2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132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457200" y="2286000"/>
            <a:ext cx="8229600" cy="350532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What does the competitive exclusion principle 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3"/>
          <p:cNvSpPr/>
          <p:nvPr/>
        </p:nvSpPr>
        <p:spPr>
          <a:xfrm>
            <a:off x="228600" y="1828800"/>
            <a:ext cx="8763120" cy="50292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t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he fish that live in streams are adapted to fast mov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lowing Fresh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6" descr="salmon"/>
          <p:cNvPicPr/>
          <p:nvPr/>
        </p:nvPicPr>
        <p:blipFill>
          <a:blip r:embed="rId2"/>
          <a:stretch/>
        </p:blipFill>
        <p:spPr>
          <a:xfrm>
            <a:off x="1981080" y="3809880"/>
            <a:ext cx="5334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228600" y="1828800"/>
            <a:ext cx="8763120" cy="47242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ater moves slower in a river and debris settles on the botto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Because of this, rivers tend to have more nutrients and less dissolved oxy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nutrients an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 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lowing Fresh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5"/>
          <p:cNvSpPr/>
          <p:nvPr/>
        </p:nvSpPr>
        <p:spPr>
          <a:xfrm flipV="1">
            <a:off x="1066680" y="56386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"/>
          <p:cNvSpPr/>
          <p:nvPr/>
        </p:nvSpPr>
        <p:spPr>
          <a:xfrm>
            <a:off x="4191120" y="56386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3"/>
          <p:cNvSpPr/>
          <p:nvPr/>
        </p:nvSpPr>
        <p:spPr>
          <a:xfrm>
            <a:off x="228600" y="1828800"/>
            <a:ext cx="8763120" cy="47242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lowing Fresh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6" descr="river"/>
          <p:cNvPicPr/>
          <p:nvPr/>
        </p:nvPicPr>
        <p:blipFill>
          <a:blip r:embed="rId2"/>
          <a:stretch/>
        </p:blipFill>
        <p:spPr>
          <a:xfrm>
            <a:off x="1600200" y="2666880"/>
            <a:ext cx="5969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3"/>
          <p:cNvSpPr/>
          <p:nvPr/>
        </p:nvSpPr>
        <p:spPr>
          <a:xfrm>
            <a:off x="228600" y="1828800"/>
            <a:ext cx="8763120" cy="44956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P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mall, shallow bod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unlight penetrates all the way to the bot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Most completely filled with plant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Very high amount of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resh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3"/>
          <p:cNvSpPr/>
          <p:nvPr/>
        </p:nvSpPr>
        <p:spPr>
          <a:xfrm>
            <a:off x="228600" y="1828800"/>
            <a:ext cx="8763120" cy="44956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P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resh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5" descr="pond"/>
          <p:cNvPicPr/>
          <p:nvPr/>
        </p:nvPicPr>
        <p:blipFill>
          <a:blip r:embed="rId2"/>
          <a:stretch/>
        </p:blipFill>
        <p:spPr>
          <a:xfrm>
            <a:off x="2590920" y="1981080"/>
            <a:ext cx="435132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"/>
          <p:cNvSpPr/>
          <p:nvPr/>
        </p:nvSpPr>
        <p:spPr>
          <a:xfrm>
            <a:off x="228600" y="1828800"/>
            <a:ext cx="8763120" cy="40384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L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Larger and deeper than p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Plant growth is limited to the shor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unlight does NOT penetrate to the bottom= no plants after a certain dep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resh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28600" y="1828800"/>
            <a:ext cx="8763120" cy="48006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L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resh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08%20-%20Moraine%20Lake"/>
          <p:cNvPicPr/>
          <p:nvPr/>
        </p:nvPicPr>
        <p:blipFill>
          <a:blip r:embed="rId2"/>
          <a:stretch/>
        </p:blipFill>
        <p:spPr>
          <a:xfrm>
            <a:off x="2438280" y="1981080"/>
            <a:ext cx="57024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3"/>
          <p:cNvSpPr/>
          <p:nvPr/>
        </p:nvSpPr>
        <p:spPr>
          <a:xfrm>
            <a:off x="228600" y="1828800"/>
            <a:ext cx="8763120" cy="48006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Plankto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are microscopic algae, plants, and other organisms that float on the surface of water bi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lank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5" descr="plankton"/>
          <p:cNvPicPr/>
          <p:nvPr/>
        </p:nvPicPr>
        <p:blipFill>
          <a:blip r:embed="rId2"/>
          <a:stretch/>
        </p:blipFill>
        <p:spPr>
          <a:xfrm>
            <a:off x="1143000" y="3809880"/>
            <a:ext cx="1943280" cy="24926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7" descr="plankt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3886200"/>
            <a:ext cx="1714680" cy="24382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8"/>
          <p:cNvSpPr/>
          <p:nvPr/>
        </p:nvSpPr>
        <p:spPr>
          <a:xfrm>
            <a:off x="5638680" y="3809880"/>
            <a:ext cx="289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need sunlight to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3"/>
          <p:cNvSpPr/>
          <p:nvPr/>
        </p:nvSpPr>
        <p:spPr>
          <a:xfrm>
            <a:off x="228600" y="1828800"/>
            <a:ext cx="8915400" cy="464832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Phytoplankton</a:t>
            </a:r>
            <a:r>
              <a:rPr b="0" lang="en-US" sz="3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are important producers in water biomes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lank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5562720" y="3352680"/>
            <a:ext cx="28954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They are the first step in many aquatic food chai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8" descr="plankton"/>
          <p:cNvPicPr/>
          <p:nvPr/>
        </p:nvPicPr>
        <p:blipFill>
          <a:blip r:embed="rId2"/>
          <a:stretch/>
        </p:blipFill>
        <p:spPr>
          <a:xfrm>
            <a:off x="1295280" y="3200400"/>
            <a:ext cx="358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3"/>
          <p:cNvSpPr/>
          <p:nvPr/>
        </p:nvSpPr>
        <p:spPr>
          <a:xfrm>
            <a:off x="228600" y="2286000"/>
            <a:ext cx="8763120" cy="236232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bout 95% of the water on Earth has a high concentration of salt. (High salinit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Saltwater Bi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132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457200" y="2286000"/>
            <a:ext cx="8229600" cy="350532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What are the 3 types of symbiosis found in n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3"/>
          <p:cNvSpPr/>
          <p:nvPr/>
        </p:nvSpPr>
        <p:spPr>
          <a:xfrm>
            <a:off x="228600" y="1828800"/>
            <a:ext cx="8763120" cy="43434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Estuaries (Wetlan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rea where a river meets 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Mix of salt and fresh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Located near coastlines, bor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Extremely 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Nutrient levels are higher than both salt and fresh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Saltwater Bi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3"/>
          <p:cNvSpPr/>
          <p:nvPr/>
        </p:nvSpPr>
        <p:spPr>
          <a:xfrm>
            <a:off x="228600" y="1828800"/>
            <a:ext cx="8763120" cy="47242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Estu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Chesapeake B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Saltwater Bi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5" descr="ChesBay"/>
          <p:cNvPicPr/>
          <p:nvPr/>
        </p:nvPicPr>
        <p:blipFill>
          <a:blip r:embed="rId2"/>
          <a:stretch/>
        </p:blipFill>
        <p:spPr>
          <a:xfrm>
            <a:off x="4572000" y="1973160"/>
            <a:ext cx="327672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3"/>
          <p:cNvSpPr/>
          <p:nvPr/>
        </p:nvSpPr>
        <p:spPr>
          <a:xfrm>
            <a:off x="228600" y="1828800"/>
            <a:ext cx="8763120" cy="40384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ash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des have a huge influence on lif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Intertidal Zone -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Portion of the shoreline that is covered with water at high tide and exposed to the air at low 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Saltwater Bi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3"/>
          <p:cNvSpPr/>
          <p:nvPr/>
        </p:nvSpPr>
        <p:spPr>
          <a:xfrm>
            <a:off x="228600" y="1828800"/>
            <a:ext cx="8763120" cy="40384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Can be sandy or ro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mall fish, clams, crabs, other mussels are trapped in the tidal pools during low t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ntertidal Z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228600" y="1828800"/>
            <a:ext cx="8763120" cy="487692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ntertidal Z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tidal%20pool"/>
          <p:cNvPicPr/>
          <p:nvPr/>
        </p:nvPicPr>
        <p:blipFill>
          <a:blip r:embed="rId2"/>
          <a:stretch/>
        </p:blipFill>
        <p:spPr>
          <a:xfrm>
            <a:off x="1600200" y="2209680"/>
            <a:ext cx="6013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3"/>
          <p:cNvSpPr/>
          <p:nvPr/>
        </p:nvSpPr>
        <p:spPr>
          <a:xfrm>
            <a:off x="228600" y="1828800"/>
            <a:ext cx="8763120" cy="40384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Oc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Can be divided into 2 main life z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1. Photic zone- Sunlight penet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2. Aphotic zone- NO sunl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Saltwater Bi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zo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5335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3"/>
          <p:cNvSpPr/>
          <p:nvPr/>
        </p:nvSpPr>
        <p:spPr>
          <a:xfrm>
            <a:off x="228600" y="1828800"/>
            <a:ext cx="8763120" cy="47242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bove 100 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unlight penet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Plant life and anim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life is abund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hotic Z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2"/>
          <a:stretch/>
        </p:blipFill>
        <p:spPr>
          <a:xfrm>
            <a:off x="5638680" y="2057400"/>
            <a:ext cx="292104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3"/>
          <p:cNvSpPr/>
          <p:nvPr/>
        </p:nvSpPr>
        <p:spPr>
          <a:xfrm>
            <a:off x="228600" y="1828800"/>
            <a:ext cx="8763120" cy="47242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photic Z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685800" y="2252520"/>
            <a:ext cx="4038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nlight DOES NOT pene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 are no pl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imal life is highly speci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lsl_deep_m070"/>
          <p:cNvPicPr/>
          <p:nvPr/>
        </p:nvPicPr>
        <p:blipFill>
          <a:blip r:embed="rId2"/>
          <a:stretch/>
        </p:blipFill>
        <p:spPr>
          <a:xfrm>
            <a:off x="5105520" y="1952640"/>
            <a:ext cx="3429000" cy="23572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3" descr="lsl_deep_m071"/>
          <p:cNvPicPr/>
          <p:nvPr/>
        </p:nvPicPr>
        <p:blipFill>
          <a:blip r:embed="rId3"/>
          <a:stretch/>
        </p:blipFill>
        <p:spPr>
          <a:xfrm>
            <a:off x="5029200" y="4495680"/>
            <a:ext cx="36432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28600" y="1828800"/>
            <a:ext cx="8763120" cy="47242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photic Z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457200" y="2057400"/>
            <a:ext cx="5029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ny of the creatures of the deep ocean have a special adaptation known a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iolumin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7" descr="v001_tif"/>
          <p:cNvPicPr/>
          <p:nvPr/>
        </p:nvPicPr>
        <p:blipFill>
          <a:blip r:embed="rId2"/>
          <a:stretch/>
        </p:blipFill>
        <p:spPr>
          <a:xfrm>
            <a:off x="5486400" y="2057400"/>
            <a:ext cx="3429000" cy="20098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9" descr="jellyfish"/>
          <p:cNvPicPr/>
          <p:nvPr/>
        </p:nvPicPr>
        <p:blipFill>
          <a:blip r:embed="rId3"/>
          <a:stretch/>
        </p:blipFill>
        <p:spPr>
          <a:xfrm>
            <a:off x="5257800" y="4267080"/>
            <a:ext cx="1581120" cy="20052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Silvercord_Bioluminescence_RESIZED"/>
          <p:cNvPicPr/>
          <p:nvPr/>
        </p:nvPicPr>
        <p:blipFill>
          <a:blip r:embed="rId4"/>
          <a:stretch/>
        </p:blipFill>
        <p:spPr>
          <a:xfrm>
            <a:off x="6934320" y="4267080"/>
            <a:ext cx="2011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1320"/>
          </a:xfrm>
          <a:prstGeom prst="rect">
            <a:avLst/>
          </a:prstGeom>
          <a:ln w="0">
            <a:noFill/>
          </a:ln>
        </p:spPr>
      </p:pic>
      <p:sp>
        <p:nvSpPr>
          <p:cNvPr id="499" name="Title 4"/>
          <p:cNvSpPr/>
          <p:nvPr/>
        </p:nvSpPr>
        <p:spPr>
          <a:xfrm>
            <a:off x="228600" y="274680"/>
            <a:ext cx="876312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hapter 4.5 – Aquatic Eco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1371600" y="1828800"/>
            <a:ext cx="6477120" cy="45720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5418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132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3"/>
          <p:cNvSpPr/>
          <p:nvPr/>
        </p:nvSpPr>
        <p:spPr>
          <a:xfrm>
            <a:off x="228600" y="1828800"/>
            <a:ext cx="8763120" cy="45720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We call our planet </a:t>
            </a:r>
            <a:r>
              <a:rPr b="0" lang="ja-JP" sz="32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arth,</a:t>
            </a:r>
            <a:r>
              <a:rPr b="0" lang="ja-JP" sz="32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yet nearly three-fourths of Earth</a:t>
            </a:r>
            <a:r>
              <a:rPr b="0" lang="ja-JP" sz="32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 surface is covered with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Despite the vital roles aquatic ecosystems play in the biosphere, many of these ecosystems are only partly underst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hink About It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not on not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132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3"/>
          <p:cNvSpPr/>
          <p:nvPr/>
        </p:nvSpPr>
        <p:spPr>
          <a:xfrm>
            <a:off x="228600" y="1981080"/>
            <a:ext cx="8763120" cy="34290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Describe the factors that affect aquatic eco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Describe and compare the distinct ocean zones that make up marine eco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Daily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3"/>
          <p:cNvSpPr/>
          <p:nvPr/>
        </p:nvSpPr>
        <p:spPr>
          <a:xfrm>
            <a:off x="228600" y="1828800"/>
            <a:ext cx="8763120" cy="40384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he limiting factors in water biomes a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mount of salt (salinit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mount of dissolved oxy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unlig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quatic Ecosys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3"/>
          <p:cNvSpPr/>
          <p:nvPr/>
        </p:nvSpPr>
        <p:spPr>
          <a:xfrm>
            <a:off x="228600" y="1828800"/>
            <a:ext cx="8763120" cy="480060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Fresh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Rivers and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Lakes and P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alt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Estu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ashores (tidal a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2 Types of Water Bi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3"/>
          <p:cNvSpPr/>
          <p:nvPr/>
        </p:nvSpPr>
        <p:spPr>
          <a:xfrm>
            <a:off x="228600" y="1828800"/>
            <a:ext cx="8763120" cy="40384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Freshwater contains little or no salt, so it has a LOW salin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Flowing freshwater =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rivers and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till Freshwater =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lakes and p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reshwater Bi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701028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"/>
          <p:cNvSpPr/>
          <p:nvPr/>
        </p:nvSpPr>
        <p:spPr>
          <a:xfrm>
            <a:off x="228600" y="1828800"/>
            <a:ext cx="8763120" cy="403848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t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he faster a stream flows the greater the amount of dissolved oxygen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Faster water flows =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it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lowing Fresh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Straight Arrow Connector 3"/>
          <p:cNvCxnSpPr/>
          <p:nvPr/>
        </p:nvCxnSpPr>
        <p:spPr>
          <a:xfrm flipV="1">
            <a:off x="5562360" y="4038120"/>
            <a:ext cx="1080" cy="610560"/>
          </a:xfrm>
          <a:prstGeom prst="straightConnector1">
            <a:avLst/>
          </a:prstGeom>
          <a:ln w="698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3:35:17Z</dcterms:created>
  <dc:creator>ISD833</dc:creator>
  <dc:description/>
  <dc:language>en-US</dc:language>
  <cp:lastModifiedBy>dzahm</cp:lastModifiedBy>
  <dcterms:modified xsi:type="dcterms:W3CDTF">2014-01-14T15:44:08Z</dcterms:modified>
  <cp:revision>210</cp:revision>
  <dc:subject/>
  <dc:title>Ch 4.3 Succession</dc:title>
</cp:coreProperties>
</file>